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Click to move the slide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B1AE-70C9-455C-9010-DC5F33341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7B1A-818D-4E40-856E-779BD7881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FAAB-7BAB-4DC5-85BC-72A98DCC2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borate with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041-6551-4820-A16A-3EFE05C14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99C4-7CE8-4AAC-BF2E-8941549F7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63E0-FB04-4A2A-A4B8-81013A115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for show of han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ary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chool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office sta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4C3-E2A6-43AB-BCDD-D43DA725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6BE6-A863-4D75-AF48-F54387430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20C8-3E7E-4F99-98E0-021CD211B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4B1E-7A14-4FDC-8FB5-BBD07325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ll famili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you to keep it in the back of your m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9CC8A-FA21-46DA-9739-FA4731EB0E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8345-27AC-41C9-8801-28279DACE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Write down three words when you think of 21st Century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We would like to state all three words as you say them… Please say it, even if it has been stated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40"/>
                </a:solidFill>
                <a:latin typeface="Lucida Grande"/>
              </a:rPr>
              <a:t>As participants respond to this we put up a Wordle graph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Apple, AIM, AOL, Audacity, Animoto, Avatar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= Bluetooth, Blogspot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= CPU, Core, Classroom 2.0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= Digg, Del.icio.us, Diigo, Dopplr, Disqus, Dabbleboard, DropBox, DropCard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xplorer, Emule Edu20, Edmodo, Edublogs, Elluminate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Facebook, Firefox, Flickr, FriendFeed, FriendFeed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Google, Glogster, Gravatar, Goodreads, GetSatisfaction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= Hulu, HIT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= Iphone, Inspiration, Iterasi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Java, Javascript, Jott, Jing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K-lite codec, Kazaa, Kidspiration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= Linux, LinkedIn, Lizzer, LMS/LCMS, LibraryThing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= MSN, Magmolia, MySpace, Mashable, MooURL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Napster, Ning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= Office, OpenOffice, OpenID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= Play Station, Plurk, pbWiki, Plaxo, Pandora, Ping.fm, PollDaddy, PayPal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 = Quicktime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Rss, reQall, Retaggr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= SecondLife, Seesmic, Skype, StumbleUpon, SlideShare, Studeous, Screencast, Scribblar, Soshiku, Shelfari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= Tags, Twitter, Tumblr, Technorati, TinyURL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 = USB, Utterli, UStream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= Vista, VoiceThread, Vi.sualize,Vimeo, Viddler, Vostu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= Wikipedia, Wikispace, Wordpress, Wordle, Webspiration, WiZiQ, WindowsLive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= XP, Xorg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YouTube, Yammer, Yugma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= Zuma, Zoho, Xing, Zillow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@ = e-Mail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y = IMs - AOL AIM, Windows Live Messenger, Yahoo IM </a:t>
            </a: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 = Oth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4B85-E6DD-4F24-8713-3221A071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ime - talk about the formative/summative assignment.   Students really struggled with the assig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D053-52F2-44F7-B623-8FB752C8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13E-0C1B-4BF1-9EDB-5EFB8A6E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724-0D72-4921-B5A6-4D9EA481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100-F0CE-449B-B4A1-700C1654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528-12CF-4767-A9CA-319D5BE9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CF1-097B-46A7-BC83-D21ED56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4C49-CEC2-4F30-87AE-74B43FF0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424-A208-4A27-821C-5D8CD104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9F6-71DF-4F8D-B728-C9B4F19F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5F8B-297C-4381-A428-F0B229CE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64D7-2813-4E2C-A381-DAF54BA7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302-ED8D-43B5-9D71-3709F399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WordArt 8"/>
          <p:cNvSpPr txBox="1"/>
          <p:nvPr/>
        </p:nvSpPr>
        <p:spPr>
          <a:xfrm>
            <a:off x="152280" y="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103285"/>
                  </a:solidFill>
                  <a:miter/>
                </a:ln>
                <a:solidFill>
                  <a:srgbClr val="1c55e3">
                    <a:alpha val="36000"/>
                  </a:srgbClr>
                </a:solidFill>
                <a:latin typeface="Arial Black"/>
              </a:rPr>
              <a:t>OAESA</a:t>
            </a:r>
            <a:endParaRPr b="0" lang="en-US" sz="2400" spc="1" strike="noStrike">
              <a:ln w="9360">
                <a:solidFill>
                  <a:srgbClr val="103285"/>
                </a:solidFill>
                <a:miter/>
              </a:ln>
              <a:solidFill>
                <a:srgbClr val="1c55e3">
                  <a:alpha val="36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28600" y="6338880"/>
            <a:ext cx="876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21st Century Leaders:The World at your Fingerti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0004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A942-1F0E-4413-9CB3-83ECF66088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qybUFnY7Y8w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560" y="160020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OAESA 2010</a:t>
            </a:r>
            <a:br>
              <a:rPr sz="4400"/>
            </a:br>
            <a:r>
              <a:rPr b="0" i="1" lang="en-US" sz="3600" spc="-1" strike="noStrike">
                <a:solidFill>
                  <a:srgbClr val="800040"/>
                </a:solidFill>
                <a:latin typeface="Tahoma"/>
              </a:rPr>
              <a:t>Highly Effective Classrooms: </a:t>
            </a:r>
            <a:br>
              <a:rPr sz="3600"/>
            </a:br>
            <a:r>
              <a:rPr b="0" i="1" lang="en-US" sz="3600" spc="-1" strike="noStrike">
                <a:solidFill>
                  <a:srgbClr val="800040"/>
                </a:solidFill>
                <a:latin typeface="Tahoma"/>
              </a:rPr>
              <a:t>What Principals Should See in Every 21st Century Classroom</a:t>
            </a: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 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Moodle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409720" y="1752120"/>
            <a:ext cx="3505320" cy="43434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r Object-Oriented Dynamic Learnin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pen-source course management system for e-learni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moodle.org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9" descr="Picture 1"/>
          <p:cNvPicPr/>
          <p:nvPr/>
        </p:nvPicPr>
        <p:blipFill>
          <a:blip r:embed="rId2"/>
          <a:stretch/>
        </p:blipFill>
        <p:spPr>
          <a:xfrm>
            <a:off x="228600" y="1905120"/>
            <a:ext cx="5105520" cy="396216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Wiki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09720" y="1752120"/>
            <a:ext cx="3505320" cy="43434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tabase of pages that visitors can edit using their own web brows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kipedia is an example of a very large Wik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wikispaces.com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8" descr="Picture 2"/>
          <p:cNvPicPr/>
          <p:nvPr/>
        </p:nvPicPr>
        <p:blipFill>
          <a:blip r:embed="rId2"/>
          <a:stretch/>
        </p:blipFill>
        <p:spPr>
          <a:xfrm>
            <a:off x="152280" y="1828800"/>
            <a:ext cx="5257800" cy="388620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Twitter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409720" y="1752120"/>
            <a:ext cx="3505320" cy="43434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s users continually informed of timely bits of inform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eets are text-based posts of up to 140 charact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llowing someone on Twitter means getting updates, or twee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twitter.com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Content Placeholder 5" descr="Screen shot 2010-05-28 at 7.13.33 PM.png"/>
          <p:cNvPicPr/>
          <p:nvPr/>
        </p:nvPicPr>
        <p:blipFill>
          <a:blip r:embed="rId2"/>
          <a:srcRect l="0" t="-342" r="0" b="-342"/>
          <a:stretch/>
        </p:blipFill>
        <p:spPr>
          <a:xfrm>
            <a:off x="228600" y="1752480"/>
            <a:ext cx="5164200" cy="419112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Blog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28840" y="1905120"/>
            <a:ext cx="3886200" cy="4419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contraction of the term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eb lo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type of Website, usually maintained by an individual, that features regular commentaries on a topic, includes links to resources, and often embeds such materials as graphics or vide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blog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7" descr="Picture 1"/>
          <p:cNvPicPr/>
          <p:nvPr/>
        </p:nvPicPr>
        <p:blipFill>
          <a:blip r:embed="rId2"/>
          <a:stretch/>
        </p:blipFill>
        <p:spPr>
          <a:xfrm>
            <a:off x="228600" y="1905120"/>
            <a:ext cx="4800600" cy="396216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Ning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86200" cy="4419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platform for people to create their own social network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s converse on a specific topic through formal posts and build resources by embedding videos and linking articles and Web si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in conjunction with face to face discussion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ning.com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8" descr="Picture 2"/>
          <p:cNvPicPr/>
          <p:nvPr/>
        </p:nvPicPr>
        <p:blipFill>
          <a:blip r:embed="rId2"/>
          <a:stretch/>
        </p:blipFill>
        <p:spPr>
          <a:xfrm>
            <a:off x="76320" y="1828800"/>
            <a:ext cx="5029200" cy="373392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Jing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86200" cy="4419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It is free software that adds visuals to online conversations. Users can create a narrated video or tutorial, and have opportunities for feedback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75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http://www.jingproject.com/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8" descr="Picture 1"/>
          <p:cNvPicPr/>
          <p:nvPr/>
        </p:nvPicPr>
        <p:blipFill>
          <a:blip r:embed="rId2"/>
          <a:stretch/>
        </p:blipFill>
        <p:spPr>
          <a:xfrm>
            <a:off x="152280" y="1905120"/>
            <a:ext cx="4800600" cy="358128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RSS Feed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8840" y="1676520"/>
            <a:ext cx="3886200" cy="44193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ree software that adds visuals to online conversations. Users can create a narrated video or tutorial, and have opportunities for feed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rssfeeds.com/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8" descr="Picture 2"/>
          <p:cNvPicPr/>
          <p:nvPr/>
        </p:nvPicPr>
        <p:blipFill>
          <a:blip r:embed="rId2"/>
          <a:stretch/>
        </p:blipFill>
        <p:spPr>
          <a:xfrm>
            <a:off x="152280" y="1905120"/>
            <a:ext cx="4800600" cy="387324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Our Wiki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05120" y="380880"/>
            <a:ext cx="6858000" cy="1828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Resources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6000" y="1828440"/>
            <a:ext cx="6400800" cy="47242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alk Through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46 Ways to Use a Word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Verdana"/>
              </a:rPr>
              <a:t>http://clifmims.com/blog/archives/262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01 Free Learning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ttp://www.slideshare.net/zaid/101-free-learning-tools-presentation?src=emb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632484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21st Century Skills: </a:t>
            </a:r>
            <a:br>
              <a:rPr sz="4400"/>
            </a:b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How do we get there?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95480" y="3048120"/>
            <a:ext cx="5562720" cy="304776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youtube.com/watch?v=8_ehGLqzBV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Who are we?  Who are you?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n Aaro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 of School Improvement, Greene E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nal Value-Added Specialist (RV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dentialed Battelle for Kids faculty me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IP Facilit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ge Instructor for Pre-service teac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anele Ho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 of Curriculum, Instruction, and PD, Preble ES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onal Value-Added Specialist (RV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dentialed Battelle for Kids faculty me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IP Facilit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er Elementary Princip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Learning Targets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4760" y="2285640"/>
            <a:ext cx="6553080" cy="350532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st Pract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1st Century Ski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Princip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ing Opportunities in the 21st Centu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OK…GO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Verdana"/>
                <a:hlinkClick r:id="rId2"/>
              </a:rPr>
              <a:t>http://www.youtube.com/watch?v=qybUFnY7Y8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100" spc="-1" strike="noStrike">
                <a:solidFill>
                  <a:srgbClr val="800040"/>
                </a:solidFill>
                <a:latin typeface="Tahoma"/>
              </a:rPr>
              <a:t>What does a 21st Century student look like?</a:t>
            </a:r>
            <a:r>
              <a:rPr b="1" i="1" lang="en-US" sz="3200" spc="-1" strike="noStrike">
                <a:solidFill>
                  <a:srgbClr val="800040"/>
                </a:solidFill>
                <a:latin typeface="Tahoma"/>
              </a:rPr>
              <a:t>  </a:t>
            </a:r>
            <a:endParaRPr b="0" i="1" lang="en-US" sz="3200" spc="-1" strike="noStrike">
              <a:solidFill>
                <a:srgbClr val="800040"/>
              </a:solidFill>
              <a:latin typeface="Tahoma"/>
            </a:endParaRPr>
          </a:p>
        </p:txBody>
      </p:sp>
      <p:pic>
        <p:nvPicPr>
          <p:cNvPr id="98" name="Picture 6" descr="Emma and Dad3"/>
          <p:cNvPicPr/>
          <p:nvPr/>
        </p:nvPicPr>
        <p:blipFill>
          <a:blip r:embed="rId2"/>
          <a:srcRect l="0" t="9090" r="7955" b="13923"/>
          <a:stretch/>
        </p:blipFill>
        <p:spPr>
          <a:xfrm>
            <a:off x="762120" y="1720800"/>
            <a:ext cx="7315200" cy="4589640"/>
          </a:xfrm>
          <a:prstGeom prst="rect">
            <a:avLst/>
          </a:prstGeom>
          <a:ln w="38160">
            <a:solidFill>
              <a:srgbClr val="800040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4080" cy="60948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40"/>
                </a:solidFill>
                <a:latin typeface="Tahoma"/>
              </a:rPr>
              <a:t>Classroom Instruction That Works</a:t>
            </a:r>
            <a:endParaRPr b="0" i="1" lang="en-US" sz="3600" spc="-1" strike="noStrike">
              <a:solidFill>
                <a:srgbClr val="800040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922320"/>
          <a:ext cx="9144000" cy="4800600"/>
        </p:xfrm>
        <a:graphic>
          <a:graphicData uri="http://schemas.openxmlformats.org/drawingml/2006/table">
            <a:tbl>
              <a:tblPr/>
              <a:tblGrid>
                <a:gridCol w="6748560"/>
                <a:gridCol w="23954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051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centile G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0516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Identifying similarities and differ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Summarizing and note ta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Reinforcing effort and providing recogn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Homework and pract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Nonlinguistic representa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Cooperative lea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Setting objectives and providing feed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Generating and testing hypoth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8e0516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Questions, cues, and advance organiz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e0516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03285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e051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e051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259092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00040"/>
                </a:solidFill>
                <a:latin typeface="Tahoma"/>
              </a:rPr>
              <a:t>What does a 21st Century classroom look like?</a:t>
            </a:r>
            <a:endParaRPr b="0" i="1" lang="en-US" sz="3600" spc="-1" strike="noStrike">
              <a:solidFill>
                <a:srgbClr val="800040"/>
              </a:solidFill>
              <a:latin typeface="Tahoma"/>
            </a:endParaRPr>
          </a:p>
        </p:txBody>
      </p:sp>
      <p:pic>
        <p:nvPicPr>
          <p:cNvPr id="102" name="Picture 5" descr="Picture 2"/>
          <p:cNvPicPr/>
          <p:nvPr/>
        </p:nvPicPr>
        <p:blipFill>
          <a:blip r:embed="rId2"/>
          <a:stretch/>
        </p:blipFill>
        <p:spPr>
          <a:xfrm>
            <a:off x="3708360" y="685800"/>
            <a:ext cx="4691160" cy="5638680"/>
          </a:xfrm>
          <a:prstGeom prst="rect">
            <a:avLst/>
          </a:prstGeom>
          <a:ln w="3816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  <p:sp>
        <p:nvSpPr>
          <p:cNvPr id="103" name="Text Box 6"/>
          <p:cNvSpPr/>
          <p:nvPr/>
        </p:nvSpPr>
        <p:spPr>
          <a:xfrm>
            <a:off x="6248520" y="647712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4b2089"/>
                </a:solidFill>
                <a:uFillTx/>
                <a:latin typeface="Arial"/>
              </a:rPr>
              <a:t>Image source by Amit Agarw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2"/>
          <p:cNvGrpSpPr/>
          <p:nvPr/>
        </p:nvGrpSpPr>
        <p:grpSpPr>
          <a:xfrm>
            <a:off x="2286000" y="838080"/>
            <a:ext cx="6477120" cy="5286600"/>
            <a:chOff x="2286000" y="838080"/>
            <a:chExt cx="6477120" cy="5286600"/>
          </a:xfrm>
        </p:grpSpPr>
        <p:pic>
          <p:nvPicPr>
            <p:cNvPr id="105" name="Picture 9" descr="Picture 3"/>
            <p:cNvPicPr/>
            <p:nvPr/>
          </p:nvPicPr>
          <p:blipFill>
            <a:blip r:embed="rId2"/>
            <a:stretch/>
          </p:blipFill>
          <p:spPr>
            <a:xfrm>
              <a:off x="2286000" y="838080"/>
              <a:ext cx="6477120" cy="5286600"/>
            </a:xfrm>
            <a:prstGeom prst="rect">
              <a:avLst/>
            </a:prstGeom>
            <a:ln w="38160">
              <a:solidFill>
                <a:srgbClr val="800040"/>
              </a:solidFill>
              <a:miter/>
            </a:ln>
          </p:spPr>
        </p:pic>
        <p:sp>
          <p:nvSpPr>
            <p:cNvPr id="106" name="Rectangle 11"/>
            <p:cNvSpPr/>
            <p:nvPr/>
          </p:nvSpPr>
          <p:spPr>
            <a:xfrm>
              <a:off x="7620120" y="5334120"/>
              <a:ext cx="106668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40"/>
                </a:solidFill>
                <a:latin typeface="Tahoma"/>
              </a:rPr>
              <a:t>Defining the Lingo… Web 2.0 </a:t>
            </a:r>
            <a:endParaRPr b="0" i="1" lang="en-US" sz="4400" spc="-1" strike="noStrike">
              <a:solidFill>
                <a:srgbClr val="800040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76920" y="632448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ucational Leadership, May,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generation of Web services and applications, to collaborate, share and crea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cial networking, blogs, wikis, Nings, Moodles, RSS feed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40"/>
              </a:buClr>
              <a:buFont typeface="Monotype Sorts" charset="2"/>
              <a:buChar char="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go2web20.net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8" descr="Picture 4"/>
          <p:cNvPicPr/>
          <p:nvPr/>
        </p:nvPicPr>
        <p:blipFill>
          <a:blip r:embed="rId2"/>
          <a:stretch/>
        </p:blipFill>
        <p:spPr>
          <a:xfrm>
            <a:off x="533520" y="1676520"/>
            <a:ext cx="3751200" cy="4495680"/>
          </a:xfrm>
          <a:prstGeom prst="rect">
            <a:avLst/>
          </a:prstGeom>
          <a:ln w="19080">
            <a:solidFill>
              <a:srgbClr val="103285"/>
            </a:solidFill>
            <a:miter/>
          </a:ln>
          <a:effectLst>
            <a:outerShdw dist="25560" dir="16200000" blurRad="0" rotWithShape="0">
              <a:srgbClr val="ffffff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0:34:58Z</dcterms:created>
  <dc:creator>GCESC</dc:creator>
  <dc:description/>
  <dc:language>en-US</dc:language>
  <cp:lastModifiedBy>Ann Aaronson</cp:lastModifiedBy>
  <dcterms:modified xsi:type="dcterms:W3CDTF">2010-05-31T21:31:22Z</dcterms:modified>
  <cp:revision>40</cp:revision>
  <dc:subject/>
  <dc:title>You made it to DAY 2 - Science  </dc:title>
</cp:coreProperties>
</file>